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8197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41160" y="4054680"/>
            <a:ext cx="8197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4200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1160" y="405468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42000" y="405468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3160" y="190512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4800" y="190512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41160" y="405468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3160" y="405468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4800" y="405468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41160" y="19051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400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42000" y="1905120"/>
            <a:ext cx="400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617040"/>
            <a:ext cx="822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42000" y="1905120"/>
            <a:ext cx="400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41160" y="405468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41160" y="19051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400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4200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42000" y="405468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4200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1160" y="4054680"/>
            <a:ext cx="8197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8197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41160" y="4054680"/>
            <a:ext cx="8197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4200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1160" y="405468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42000" y="405468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13160" y="190512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4800" y="190512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41160" y="405468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13160" y="405468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4800" y="405468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400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42000" y="1905120"/>
            <a:ext cx="400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617040"/>
            <a:ext cx="822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42000" y="1905120"/>
            <a:ext cx="400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41160" y="405468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400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4200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42000" y="405468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4200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41160" y="4054680"/>
            <a:ext cx="8197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1160" y="19051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457200" y="624852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chool Law and the Public Schools:  A Practical Guide for Educational Leaders, 5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ss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5638680" y="6384960"/>
            <a:ext cx="221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2012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4419720" y="63244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3-</a:t>
            </a:r>
            <a:fld id="{F6C259E5-A5FB-40C5-9722-E0F5E8ABD732}" type="slidenum"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bluegradientbar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pearson"/>
          <p:cNvPicPr/>
          <p:nvPr/>
        </p:nvPicPr>
        <p:blipFill>
          <a:blip r:embed="rId3"/>
          <a:stretch/>
        </p:blipFill>
        <p:spPr>
          <a:xfrm>
            <a:off x="7861320" y="6362640"/>
            <a:ext cx="113040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bluecorner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2743200" y="59436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124080" y="5181480"/>
            <a:ext cx="29577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chool Law and the Public School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 Practical Guide for Educational Leaders, 5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© 2012 Pearson Education, Inc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pearson"/>
          <p:cNvPicPr/>
          <p:nvPr/>
        </p:nvPicPr>
        <p:blipFill>
          <a:blip r:embed="rId3"/>
          <a:stretch/>
        </p:blipFill>
        <p:spPr>
          <a:xfrm>
            <a:off x="3975120" y="6286680"/>
            <a:ext cx="1130400" cy="4190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41160" y="19051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pter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ents, the Law 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 Sch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22024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ensorship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41160" y="16765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imited revie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school sponsored publications may be permitted, bu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road censorshi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no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on-school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ponsored Newspape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 school sponsored newspapers are those not endorsed by the school but printed at students’ expense away from school premis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publications may not be totally prohibited by school official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41160" y="106668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strictions, however, may be imposed regarding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i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distribu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h restrictions are recognized as conditions affecting freedom of press not prohibi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41160" y="91440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udents who are responsible for producing the newspapers are held accountable for any libelous material printed in the newspap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8220240" cy="76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ress and Appear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1160" y="16765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udent dress as a form of free expression is not viewed as significantly as most other forms of free express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, however, a first amendment freedom associated with i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41160" y="91440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ress may be regulated if there is a defensible basis for doing so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ever, school regulations that violate students’ right by being vague, ambiguous and failing to demonstrate a connection to disruption will not meet court scrutin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22024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ntroversial Sloga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41160" y="16765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logans worn on T-shirts, caps and other media that are in direct  conflict with the school’s stated mission may be regulat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ose expressions which violate standards of common decency, contain vulgar, lewd and otherwise obscene gestures also may be regulate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22024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chool Suspens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1160" y="16765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hool suspension still is considered a legal form of discipline for students who violate school or district polic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- school suspensions used by 91% of the school districts in the United States, whereas out-of-school suspensions are used by 95% of the district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ocedural and Substantive Due Proc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41160" y="189720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are two types of due process, both of which apply in the school setting: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bstan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al due proce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means that if a person is to be deprived of life, liberty or property, a prescribed constitutional procedure must be followed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41160" y="9907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463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bstantive due proce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nsures that a valid reason exists if a person is deprived of life, liberty or property and that the means used to deprive the person are reason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41160" y="114300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hool officials are granted broad powers to establish rules and regulations governing student conduct in the school setting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powers, however, are not absolut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22024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puls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1160" y="16765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like suspension, expulsion is considered one of the more severe forms of discipline because it involves long-term separation from the school district and in some instances permanent sepa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02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41160" y="16765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arches may be conducted by school personnel if reasonable suspicion is establish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asonable suspicion is based on information received from students or teachers that is considered reliable by school officials.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22024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ersonal Search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41160" y="16765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should be a sense of urgency based on a belief that the student has in his or her possession some dangerous item that could pose a serious threat to health and safety of the student or others in the school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volvement of Law Enforcement Official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41160" y="189720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n law enforcement officials enter the school to conduct a search, the search must be preced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arra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a warrant is issued, strong evidence involving  probable cause should be establish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822024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tal Detect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41160" y="175248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use of metal detectors, like other intrusive methods, must be justified as reasonable and necessary to meet a legitimate school objectiv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is case, maintaining a safe and orderly school environment was considered a legitimate school objectiv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22024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rporal Punishmen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41160" y="175248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poral punishment usually involves the use of physical contact for disciplinary purpose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poral punishment as a disciplinary tool is not uncommon within school systems in the United Stat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22024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assroom Harassmen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41160" y="175248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room harassment is a form of sexual discrimination based on the U.S. Supreme Court’s ruling i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avis v. Monroe Co. Board of Edu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ool officials are liable if they are clearly unreasonable and deliberately indifferent toward the alleged harassing conduc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024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gnant and Married Stud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41160" y="160020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urts have generally held that pregnant and married students may not be denied the opportunity to attend school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basis for the court’s position is that these students must be afforded equal protection under the law, as well as due process of law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22024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arried Stud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41160" y="16765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ried students have the right to attend public school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rules designed to exclude married students from attending school are invalid and in violation of their Fourteenth Amendment rights—namely equal protection under the law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41160" y="91440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subject to the standard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“reasonableness.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lly, rules are deemed to be reasonable if they are necessary to maintain an orderly and peaceful school environment and advance the educational proces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41160" y="106668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students enjoy many of the same constitutional rights as adults, courts have been very diligent in ensuring that their constitutional rights be protecte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41160" y="106668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landmark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ink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case, the U.S. Supreme Court for the first time held tha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udents possess the same constitutional rights as adults and that these rights do not end at the school house do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0240" cy="84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otests and Demonstra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1160" y="160020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ests and demonstrations are considered forms of free express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us, students are afforded the right to participate in these activit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 long as these activities are peaceful, and do not violate school rules or result in destruction of school property, they cannot be disallow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02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chool-Sponsored Newspape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1160" y="16765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rts generally hold that a school publication has the responsibility for providing a forum for students to express their ideas and views on a variety of topics of interest to the school communit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41160" y="106668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the newspaper is intended to represent a forum for student expression, those responsible for its production should be mindful of their obligation to embrace responsible rules of journalism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41160" y="9907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road censorship by school officials is not permitted and is in violation of the free speech rights of students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9T15:01:27Z</dcterms:created>
  <dc:creator>cbrown</dc:creator>
  <dc:description/>
  <dc:language>en-US</dc:language>
  <cp:lastModifiedBy>T61Image</cp:lastModifiedBy>
  <dcterms:modified xsi:type="dcterms:W3CDTF">2013-09-16T22:51:18Z</dcterms:modified>
  <cp:revision>63</cp:revision>
  <dc:subject/>
  <dc:title>PowerPoint Presentation</dc:title>
</cp:coreProperties>
</file>